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9A9-1580-4A05-AD26-6316DC99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58F-5B64-46F9-94D1-DE4C1302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5168A-C0FB-438E-B4CE-CA4C3715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536D9-B36E-4F14-ACE1-34C3DF2D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049B9-672A-4A78-B5F4-C0C720FC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E611A-DE5A-46A6-99AA-EE6CAA5A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6B3F-5E52-44E5-9E5A-1F3DB2F5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5B696-D9BC-4F4E-A166-12054AE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79129-5294-45DD-AFDB-30E31699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D05C0-9AFF-4709-BC62-B03CFB55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929EF-DE12-42A6-9358-D2EF4F81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28505-5FB3-480D-A0C1-C71E0438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4AB-A047-4DB6-885B-B00AD0C5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2E9B1-40EF-4C18-9E10-1190B9A6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516E7-2CA3-453B-8E97-9EE8FD7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32530-EF2E-4A39-81E4-F5001F29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61C6F-B814-49CC-8FE0-C9BAAA69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7DCCD-89D2-4F09-9718-3CBD3F0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BBB32-119C-4736-87BE-181D531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2E86A-4999-450C-85F4-6F65503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4F641-24C0-4911-A6FF-78C2BFA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3FD10-0359-4CD2-B1B4-E6221470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B0AF0-01A4-4E51-9086-BAB06090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2AD-0C63-4FF0-A081-99887EE1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12F21-A49A-4215-82CA-70BBA88A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CB824-06AC-40BD-9D61-B10DE8E4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0AB1A-30E8-4CA7-8D6C-6DEC3F1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9F789-9AE0-4764-A113-6CF7E776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30313-FDCE-4BA0-86EB-8AD8700A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CDB12-5832-4A49-9E61-A3871E34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A3D99-F085-448B-8D05-B9259933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9417C-2BAC-4F3F-8D57-500CE69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AB006-6C29-4BA4-ABA2-78AACC16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5EFF9-E557-40C3-994D-5422C782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951B-3C3D-4C70-86CB-33AD3DB3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A2F49-5637-4DF1-91AE-16A822AE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2F15A-F284-41C2-8C7F-D9984FCB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3079E-C6D8-4C96-94E4-B44CF8AA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414B2-2EF6-40F9-B22D-2B4FFF52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C839C-0F98-4933-9903-EED4CE6B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AC428-6245-4078-BA9F-AFAB5E3C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03E3B-A86F-4B82-BC45-D822A803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31425-3C64-4A30-AEBD-0BFBB716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2D263-A2F9-4C2F-9104-8053EF2F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784EB-B633-4CD1-97D6-AF55F6A2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A619-0121-4293-B6DB-1481AADC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3F76E-036A-42FC-ADC0-4BD83CA2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9457A-657F-4A52-9C0B-065BD127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D3C84-F18F-4191-B2AD-8D14F6AC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33921-B709-4ADA-8974-CAF9DA39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635D0-B0B9-424B-88E2-87E52618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1B6D-887A-4CFE-9D4D-E24609E5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93EB-C4E2-423E-A39C-F8F46F1F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CE0C-A2A8-42FF-BC06-3FD0FBA0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EF2B-04FA-41BF-B845-46FC2697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445F-1BD1-4586-9FD5-A04A8FB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1A2-4FFB-4DE6-9A09-011F375E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0685-D0CE-4F85-AA42-15FFB26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F251-F437-43C1-B2B2-4681279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5F2D-8293-43C3-A54F-7E9F5B92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1432-E7E0-4A98-B468-0DB0B6CE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DE42-D46C-494A-911E-DC441FAD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268A-CFC7-4DC0-8B56-248B2552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DBFA-F6E9-4378-A1C7-62BBB80B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EC89-A6FF-416E-827D-5D1FEC26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9F7C-D8FE-4328-92A9-932C4E74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0315-F450-4E61-AB9F-6D6D95E7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793-1584-45DD-947B-91F29409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9B3A-8B70-4F1D-BE44-D392AB0F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B32A-CC4B-4454-9E5D-62CB23A3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7793-F037-4373-A720-86F52C6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852E-BAA9-45A1-8318-7A807FFE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A34A-47EF-4E27-BD1D-53B1B86C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CE456-7C2D-4752-A46F-7CE76784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77D7-17B4-41C0-8B59-02042E45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222C6-7F4C-4AEC-83DE-86BE7BEC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001B-19F9-470D-AB91-7CC2AC97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CC48-BB3B-435B-A1BA-DB2A7AA7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0BD-3AC7-4FA9-B1FC-B73761BE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19FE-41F8-49C2-A218-0E83200C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F9AC-8732-4A31-BCD1-56179F1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98B6-92EF-40F2-85A5-DA5BD799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61503-A97C-48A9-932A-B4167874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D2FA-B68D-4963-A048-6B9D4D07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6691-A627-422D-B457-7FF58085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1CC37-B4BC-4B69-B0C0-F63A0361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27472-CF25-4D74-86E1-B7264BFB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314A5-850B-4DB4-B7FC-8B6E8590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437A-69BF-45CD-ACFF-65411E06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332-F841-4CF0-800B-7B456889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D652-DA41-4852-921B-C6B03E52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4E93-F7F6-46E8-B787-1140402C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F0E0-B90D-4D35-9D4E-63852A2F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983A4-D087-43EE-B2A3-9B565990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A00B8-6C5A-443A-A456-34BBB6CF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93F3-9B5D-4283-8BEA-939A8B44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2D79-4BB6-405E-91F0-C0F2B23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E393E-3B51-45C8-BF79-F7B47A53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20826-1EBC-4849-BBBF-CC1AC0C5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C9FDC-E8AB-4B8D-AAE2-A7625FC9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FB0-5330-45B4-A04C-864E093C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1B943-F309-4232-8B6B-CBAAEBB1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6A64A-CF75-4F4E-849D-F96682B7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5BFD9-1284-464D-B3B2-951B6145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87A4-FE19-42DC-8531-5952FBBD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2A6E7-3B63-4A9C-ABF0-B63C45C6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B3CBB-AD22-4A97-BF53-817A6882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C86CE-9409-4A1E-9EEA-5EF91A46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01B0-E607-4B4D-83C6-3A51B48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92B87-D941-4B72-8BCC-D76E3AA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4AD31-667D-4399-B3B6-B02B90F9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EC1-23D1-4257-90F9-EBCED0D0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681C8-863C-4E38-89C6-10C8EECA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CB9AF-BB45-45EB-9FA2-9EA089C3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5685A-3025-4EE5-81C7-6030E0DE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62E3B-C911-477C-8E7B-CD593472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786BB-C606-4A00-B29A-318ED2DF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1C5DF-DBEF-445F-8510-6C52ADBC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F5575-3EC6-4130-836E-2DF8224E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3D06D-EF77-4929-8212-2E68B6CD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83A79-FCF8-4E18-A512-A81715FE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732BD-5E5E-40DC-802B-C0E41691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E49-BFA6-464C-B6CC-FE401F9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28DF0-C608-4538-8FF4-FFA368BA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E2FC6-F94F-4368-AFD9-45E14922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F6EA0-DF1F-481C-9AFA-A5EF30A9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DAF06-E696-4FC9-83D7-351BA11F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3BD25-75D3-4D7A-91C0-B528D4EF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F9A8-C7D8-4DF5-9A98-2E2DA899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90A65-8692-4647-8D97-432A0C6B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020B1-AFC2-4492-8660-5082661D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70540-16F8-4D24-B3DC-427A7C63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C9E83-0AE9-40A4-984B-7EE45C65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9BD-C6BD-4B00-A9C1-D892CA82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9E26C-6F27-43D1-9468-9A87F8F6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70CD2-DBC5-44C2-9915-2A9E75D0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4FDD0-B08F-4683-8CBA-B05156A4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9B893-FF3E-492E-BD42-511B8114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782E-3A72-4365-83C1-36308798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E0E9-EEB7-4550-A075-2F3D7224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F191-F939-43E3-976A-C9B598E6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E7057-BFDF-4776-8E4D-407AD294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FA1B0-9B0B-4C46-AE9B-9FBCEE0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310B9-9154-4636-88B0-819A6DC3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8C3C-88E5-4497-909A-B952DE5B5E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9501-88DB-413D-9B4B-2C01A972E8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ACE8-BE78-460F-B8DC-12EE44FF6E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5925-8323-4A70-A698-7132A12577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F9B6-0800-492F-A282-A6FED65152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485D-AAEF-43EF-BEDF-4B6F8C3230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4F9C-732D-4249-90B3-ADB25942E6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9C2A-0308-47C2-8761-3B0958A2D9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3D0-677B-4BC4-9E77-BE798CADA1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25A2-207E-4F8E-83AE-56ED49AFE3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B45-5286-4329-AD21-443248E20F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35E5-E5B8-4FA9-B3BF-5AC5CE89D8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7 Pomôž mi, Pane láskav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mi, Pane láska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k službe blížnym hoto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ich biedou nech 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súcit 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šade radosť rozd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údiacich uč ma k tebe v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domovu volať zo zlých cie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sť im tú zvesť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áš ich rá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koj chceš im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lni vieru v súž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u a nádej udeľ m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s tebou kráč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elo vpre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ehľadím už nikdy spä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tvoju lásku túžim m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vojich blížnych mil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rnú prosbu vypoč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oje snahy upevňu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28:15Z</dcterms:modified>
  <cp:revision>21</cp:revision>
  <dc:subject/>
  <dc:title>Je veľký náš Pán, on slávy je Kráľ Nech do všetkých strán  spev vrúcnych znie chvál.</dc:title>
</cp:coreProperties>
</file>